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0D0-AD9C-40B5-8FAD-EAE43137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DC2-F38E-4075-ACCD-164EFE4B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F07-60CE-4A40-842D-A57E3E17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171-96BA-4AB4-93F5-61DBC636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D594-FA32-40A5-95A1-604E0A0E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49E-DFAD-4439-9F06-45EE882F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630-6120-4507-80F7-5A369A91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DBE-204F-468F-BE3C-CB9B86B5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A77-CE72-40FB-9237-4A4EF8C7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051-D9EB-4373-B8D7-9C1D0032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07F-05B9-4765-9B7F-24EBEFC5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B32-F41D-4730-A6D7-0AEFA4DF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1448-6AEE-454D-97D5-9008BB76C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6 Chválospev vďa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ospev vďaky radost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rdcia dvíha k nebe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anjelov chór slávnost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pĺňa svätý Boží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ím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ovom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voril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všetko z lásky daroval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0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neho sme jak poľný kvet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večne s nami vždy si prial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kladom vlády jeho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 i spravodlivý súd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sť a svätosť jeho sm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tovať svetu Boží ľu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m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rónom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nešen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úctou sa všetci skláň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Pán je vládca všemoc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jemu chválu vzdávajm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05:42Z</dcterms:modified>
  <cp:revision>29</cp:revision>
  <dc:subject/>
  <dc:title>Je veľký náš Pán, on slávy je Kráľ Nech do všetkých strán  spev vrúcnych znie chvál.</dc:title>
</cp:coreProperties>
</file>